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6FD-7D8A-4B64-A1D6-10B2B9F3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809-13CF-4E63-8F23-5E3BB523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902-9F8F-4B7A-9085-C16FEE4E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D37-2CC2-4A4F-B5F3-A5DC9027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AB03-FD2F-46ED-9B95-B5F4B79C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FF13-702B-4600-8E15-F89F55A6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2B73-5749-4161-A1D6-C15D4526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228E-5FA7-4A1C-A9A2-8A9AF350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1873-ACEE-4CBE-987A-4766074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78EE-27FE-44F4-B5D4-E0CF0418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6D86-4DE9-4382-9A7F-EC83715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C9B-2128-4160-B7D3-2F585FF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DF6B-4621-4E07-9DAB-91692D1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7178-BB5F-4F08-8B63-3C1EBEA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FB82-B622-44BC-9490-9497209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240B-BF1F-4A30-938E-A65693B4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647D-A09C-4BEE-B648-8EBEBC88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A5EB-DB0D-45C6-A77E-33E13058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23DC-8820-4953-BBFE-0E9DBD58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E846-DBEB-4997-9BEF-024F5367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634A-9700-435D-AF4F-3843C49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DD4D-DAAB-4517-8CC4-DEC0AD27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21D-DC88-49CE-AA02-1F07EB3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4596-E3CE-47E7-A96F-65D5D374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5A35-AA54-4C64-83B8-C2910AED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3796-2502-465E-A3B6-0FD9E81B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1D48-1C90-4753-88E4-C86377D7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A152-1566-41B1-BEFE-A99CEBB7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F4FD-CCD6-402F-ADCE-AAE17903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87D8-0CB2-4A90-AE97-12F42334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0DFF-C2AB-45FA-8EDC-5BDFBEEF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7FA0-E22D-40EA-AE06-840EB78A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30EE-4ED7-42CE-922B-8F6C8949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869-8499-4AE2-AF91-26BE2277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F0DA-6159-4251-B038-1FFAAC43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3098-AF5D-41A5-B176-CCA0DB6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FB4A-BF8E-4189-AE9E-C327C32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09AA-729E-4F1F-AF94-2C60BD9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5DFA-C9BB-46BC-BF20-5DD61895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066B-AF99-4D40-BBB6-47BFE449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7C42-6198-4EBC-A840-3E6947A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676E-19BE-435D-87D2-86DE3F25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CD28-DB3D-4242-A1AC-807397EB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AF44-1B37-44D2-8696-2ECE787F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538-DB05-44CF-9B04-83EA42F2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34FB-DDF1-4B94-9FC6-BEE44AF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F5B4-E068-45BA-873B-F5C5C82C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1C05-D465-4587-B680-129E6AF2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4064-F619-4A16-B800-7904C6FA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FE11-D2CC-4D5C-8569-2EE0D5E3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F757-23F2-4EAE-AD3A-CF2A43AB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5C84-ADED-4445-8D8B-CA38219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DB21-E80B-4F30-AE36-56FED797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6C70-638D-4060-9611-E61273BA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62E0-BB11-439A-A839-D9E5D3A3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5BA-D1B4-41BF-8914-1C9F1F36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4892-7C9A-4093-8A47-9E07E384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CC77-E48B-4B03-9926-CC87B704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8B4D-FE2F-4E62-A16F-71BD201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0007-E2D4-4E5A-A85F-35A19ED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B082-7EF0-4860-832F-5EDE9F0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9BAF-0ABF-4455-A0E1-C13D7EDD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B1EA7-B02F-439C-BC02-6DE6CA7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D12C-1C63-43BB-924A-A98A0F1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82A3-AB4D-4289-B194-84A4881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9177A-BE92-4E67-8632-2158D609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DB5-5BA4-449C-9FEB-D85D798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0783E-B70B-44E7-9375-D5DF904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7DB1-ED82-492B-9740-541C0A5B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C547-44C0-4B51-8014-27E997E4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74FB7-3243-4294-BF9D-5572E313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FC38E-F04F-496F-96E9-D71BC9BF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01BC6-18EB-4095-83DC-5320AD2B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82E4-2678-4752-A4B5-56C8B8C8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7B53-EF76-4A87-92F8-0FF87E07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5276-2137-4E8F-BF49-886734B4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E7028-6257-446A-A723-2C19EE4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601-62DC-4EED-9C14-6FDC6B27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1C02-B43C-4EBC-BB23-A38E44E7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1BAFE-9516-40AF-B41C-A6400AB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3D3B-C04D-4112-8A74-DB36443F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FF87-5085-4737-91A2-53BA766F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FA8A-5AB2-4E52-A9A4-9E76DEAA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B57EA-066F-42DD-A0DC-AD392A52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9A57-2A07-43DC-A92D-9D56F128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7935B-5C49-4415-AFCE-59B7457C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4520-D966-4D7B-9BBC-405B7C6D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41FDE-DB07-4B57-967A-6338CF2C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6DE-B70F-4C77-9AAB-B816F15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66C0-BD54-4F69-BBA2-976E9D3E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4C81A-62A0-40C9-BE77-81C0BFE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1AB7-05F0-4BA7-A5BF-FDE99BC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541EF-5E3D-4D21-A7F3-1CD6DC0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69CBE-D892-4916-A4B3-C9994C66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F07E-DB30-4FFD-8309-266B3EAF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4436-74CD-4A2C-87E8-20496AC3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A88A-D1AF-409C-AD8B-31804AC32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6202-2BFB-45CE-ADAC-265A8A5DED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D034-2702-4C50-B0DE-429F49548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01A-B88C-4465-94D7-FA40D4D35E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DD1-8D36-46F0-A6BD-42CDFB16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7F7-9246-4BEC-BF0B-1EB37192C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885A-2DCB-482F-8382-8879C974EBF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8158-D28F-4618-B807-7FC605C24BF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2511360" y="2170080"/>
            <a:ext cx="6291360" cy="3402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3"/>
          <a:srcRect l="0" t="0" r="5463" b="0"/>
          <a:stretch/>
        </p:blipFill>
        <p:spPr>
          <a:xfrm>
            <a:off x="304920" y="162000"/>
            <a:ext cx="3124080" cy="5030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"/>
          <p:cNvSpPr/>
          <p:nvPr/>
        </p:nvSpPr>
        <p:spPr>
          <a:xfrm>
            <a:off x="2286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"Good friends in three countries": Japanese propaganda poster from 1938 promoting the cooperation between Japan, Germany, and Ital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2193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6480" indent="-57132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nk about our last unit, World Between the Wars (1920s-30s)…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hy were the countries we studied willing to go to war by 1939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60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662280" cy="43434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5867280" y="5867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2193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78880" indent="-51984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hink about our last unit, World Between the Wars (1920s-30s)… why were the countries we studied willing to go to war by 1939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8880" indent="-51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8880" indent="-51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With an elbow buddy… Fill in A&amp;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38880" indent="-450720">
              <a:spcBef>
                <a:spcPts val="499"/>
              </a:spcBef>
              <a:buClr>
                <a:srgbClr val="7fd13b"/>
              </a:buClr>
              <a:buSzPct val="95000"/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rainstorm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REE specific reasons from the 1920s-30s that countries wanted to BETTER their way of lif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38880" indent="-450720">
              <a:spcBef>
                <a:spcPts val="499"/>
              </a:spcBef>
              <a:buClr>
                <a:srgbClr val="7fd13b"/>
              </a:buClr>
              <a:buSzPct val="95000"/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rainstorm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REE specific reasons from the 1920s-30s that countries wanted to PROTECT their way of lif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38880" indent="-45072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66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Left-Right Arrow 8"/>
          <p:cNvSpPr/>
          <p:nvPr/>
        </p:nvSpPr>
        <p:spPr>
          <a:xfrm>
            <a:off x="3124080" y="3276720"/>
            <a:ext cx="3276720" cy="1600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0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losely connected, but different…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th a NEW partner… list characteristics of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Left-Right Arrow 8"/>
          <p:cNvSpPr/>
          <p:nvPr/>
        </p:nvSpPr>
        <p:spPr>
          <a:xfrm>
            <a:off x="3124080" y="3276720"/>
            <a:ext cx="3276720" cy="1600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0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losely connected, but different…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304920" y="2590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orm of government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which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government is suprem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dividuals have few right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otal control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f the government rests in the hands of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ne or few pers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Any ruler can become totalitarian,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whether elected or no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029200" y="25909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itical party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preached that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ation and the race were more important than the individual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Fascists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won election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frightening people into supporting them and their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lead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04920" y="2590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orm of government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which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government is suprem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dividuals have few right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otal control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f the government rests in the hands of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ne or few pers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Any ruler can become totalitarian,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whether elected or no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156960" cy="140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ading – </a:t>
            </a:r>
            <a:r>
              <a:rPr b="1" lang="en-US" sz="3000" spc="-1" strike="noStrike">
                <a:solidFill>
                  <a:srgbClr val="ffff00"/>
                </a:solidFill>
                <a:latin typeface="Century Gothic"/>
              </a:rPr>
              <a:t>Class (5 mi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swer Questions 1&amp;2, start filling out event/timeline notes – </a:t>
            </a:r>
            <a:r>
              <a:rPr b="1" lang="en-US" sz="3000" spc="-1" strike="noStrike">
                <a:solidFill>
                  <a:srgbClr val="ffff00"/>
                </a:solidFill>
                <a:latin typeface="Century Gothic"/>
              </a:rPr>
              <a:t>Partner (10 mi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ish event/timeline notes during the video – </a:t>
            </a:r>
            <a:r>
              <a:rPr b="1" lang="en-US" sz="3000" spc="-1" strike="noStrike">
                <a:solidFill>
                  <a:srgbClr val="ffff00"/>
                </a:solidFill>
                <a:latin typeface="Century Gothic"/>
              </a:rPr>
              <a:t>Individual (45 mi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37242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ow did the social, political, and economic developments change the lives of people in the 1920s and 1930s?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ue TUESDAY, April 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5 paragraph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81520" y="2971800"/>
            <a:ext cx="38289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ow did the social, political, and economic developments change the lives of people in the 1920s and 1930s?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ue TUESDAY, April 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5 paragraph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 countries minimum (3+ =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exceeding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expectatio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 reasons for each Social/Political/Ec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different countries within these categor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X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U.S. &amp; Germany for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Economic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Britain &amp; Germany for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Politica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U.S. and Germany for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ocia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+ reasons =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exceeding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expecta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se your cheat sheet! That’s what it’s for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n’t let this be you on Monday night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1427040" y="2133720"/>
            <a:ext cx="61930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quering this unit with a TEST – multiple choice, short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2085840" y="2895480"/>
            <a:ext cx="4695840" cy="37753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304920" y="54100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American soldiers raise the flag at Iwo Jim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52280" y="129492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 a blank piece of paper, skip five lines and then make a chart like this one that fills the rest of the pa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Straight Connector 4"/>
          <p:cNvSpPr/>
          <p:nvPr/>
        </p:nvSpPr>
        <p:spPr>
          <a:xfrm flipV="1">
            <a:off x="685800" y="3962160"/>
            <a:ext cx="7543800" cy="7596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Straight Connector 5"/>
          <p:cNvSpPr/>
          <p:nvPr/>
        </p:nvSpPr>
        <p:spPr>
          <a:xfrm>
            <a:off x="4267080" y="1981080"/>
            <a:ext cx="7632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Content Placeholder 2"/>
          <p:cNvSpPr/>
          <p:nvPr/>
        </p:nvSpPr>
        <p:spPr>
          <a:xfrm>
            <a:off x="457200" y="2133720"/>
            <a:ext cx="8686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Content Placeholder 2"/>
          <p:cNvSpPr/>
          <p:nvPr/>
        </p:nvSpPr>
        <p:spPr>
          <a:xfrm>
            <a:off x="533520" y="2057400"/>
            <a:ext cx="3809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4495680" y="1981080"/>
            <a:ext cx="38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Content Placeholder 2"/>
          <p:cNvSpPr/>
          <p:nvPr/>
        </p:nvSpPr>
        <p:spPr>
          <a:xfrm>
            <a:off x="533520" y="4191120"/>
            <a:ext cx="3809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Content Placeholder 2"/>
          <p:cNvSpPr/>
          <p:nvPr/>
        </p:nvSpPr>
        <p:spPr>
          <a:xfrm>
            <a:off x="4724280" y="4191120"/>
            <a:ext cx="3810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bove your chart (not IN your chart…),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brainstorm a list of reasons that people or countries go to wa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4781520" cy="37972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76320" y="626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American soldi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r is usually fought for one (or both) of the following reas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improve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protect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763720" cy="39625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6248520" y="6095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Germany is free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6840" y="13716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3960" indent="-28296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improve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protect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ith a partner,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share your list of reasons and then label each reason as either </a:t>
            </a:r>
            <a:r>
              <a:rPr b="1" lang="en-US" sz="2600" spc="-1" strike="noStrike">
                <a:solidFill>
                  <a:srgbClr val="43f21a"/>
                </a:solidFill>
                <a:latin typeface="Century Gothic"/>
              </a:rPr>
              <a:t>IMPROVE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or  </a:t>
            </a:r>
            <a:r>
              <a:rPr b="1" lang="en-US" sz="2600" spc="-1" strike="noStrike">
                <a:solidFill>
                  <a:srgbClr val="43f21a"/>
                </a:solidFill>
                <a:latin typeface="Century Gothic"/>
              </a:rPr>
              <a:t>PROT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38440" cy="56671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"/>
          <p:cNvSpPr/>
          <p:nvPr/>
        </p:nvSpPr>
        <p:spPr>
          <a:xfrm>
            <a:off x="4876920" y="626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American propaganda post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1:07:08Z</dcterms:created>
  <dc:creator>Meri</dc:creator>
  <dc:description/>
  <dc:language>en-US</dc:language>
  <cp:lastModifiedBy>MCPASD</cp:lastModifiedBy>
  <dcterms:modified xsi:type="dcterms:W3CDTF">2012-04-05T14:32:20Z</dcterms:modified>
  <cp:revision>21</cp:revision>
  <dc:subject/>
  <dc:title>WORLD WAR II</dc:title>
</cp:coreProperties>
</file>